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25.jpeg" ContentType="image/jpeg"/>
  <Override PartName="/ppt/media/image2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10.jpeg" ContentType="image/jpeg"/>
  <Override PartName="/ppt/media/image30.png" ContentType="image/png"/>
  <Override PartName="/ppt/media/image29.jpeg" ContentType="image/jpeg"/>
  <Override PartName="/ppt/media/image5.png" ContentType="image/png"/>
  <Override PartName="/ppt/media/image43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8.jpeg" ContentType="image/jpeg"/>
  <Override PartName="/ppt/media/image44.jpeg" ContentType="image/jpeg"/>
  <Override PartName="/ppt/media/image42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7.png" ContentType="image/pn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6.jpeg" ContentType="image/jpeg"/>
  <Override PartName="/ppt/media/image27.jpeg" ContentType="image/jpeg"/>
  <Override PartName="/ppt/media/image40.jpeg" ContentType="image/jpeg"/>
  <Override PartName="/ppt/media/image1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F0D2-5BFA-4691-9928-48E61FD06DA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9E4B-8EB9-4FBB-980B-7667818C581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BC7A-7C53-4CA9-980D-69996BC3E78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giene/Maintenance Factor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asic animal nee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vational Factor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Human’s ability to grow psychologic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giene Factors must be satisfied, if not, it is a de-motiv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2A0B-DF8D-4051-BBA2-96C263500F3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Wor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e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ay for necessities &amp; some luxu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urit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ense of security &amp; being sa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likely to lose your jo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  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Feeling part of a group or organ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eting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ing friends at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eem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feeling of impor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gnition in your jo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b Satisfacti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Enjoyment in doing a job wel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14D8-2CD4-4034-A710-6E938AF2847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 reason for wor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s incen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courages harder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 more effectivel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5558-C130-4BB4-94B7-431DDFD5E7C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d on quantity produc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ey ma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ey are pa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 Rate + Additional Mon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rget Output S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able outp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viduals / Te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F9B0-7009-4432-97E8-EFE6E6DAF8B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courages wor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 ha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 more outp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2614-8854-4B4F-A785-F3B2B38D1C8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d Month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 Account / Not in Ca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fice Workers / Mana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-collar Wor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41C1-6C0A-46C4-89E1-0236C27139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ommiss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ales Staf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asic Pay each mont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xtra pay based on sal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sually calculated as a percentage of sal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ore Sales, More Mone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alibri"/>
              </a:rPr>
              <a:t>Advantage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More Sal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ore Profi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ncourage Sales Staff to Sell Mo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ore Persuasive to Customers to buy mo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hort-Term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alibri"/>
              </a:rPr>
              <a:t>Disadvantages  </a:t>
            </a:r>
            <a:r>
              <a:rPr b="1" i="1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ustomers buy what they don’t want buy by persuasive sales peop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ad Reput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Long-Term Damag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alling Sale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ales Poor -  Paid Les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rofit-Shar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dditional Money on top of Basic Salar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uccessful Busines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onuses Pai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ortion of Profits Shar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Quarterly, Half-yearly, Yearl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rofit Alloc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ividend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e-invest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rofit-Shar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Bonu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Lump Su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aid to Worker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orked Wel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aid if the business is successfu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nd of Yea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terval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erformance-Related Pa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Level of Effectivenes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se Increas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sed where output cannot be measure</a:t>
            </a:r>
            <a:r>
              <a:rPr b="0" lang="en-AU" sz="11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olice Officer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eacher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anager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ealth Care Worker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F396-CB58-4FAC-9A09-BAB91D039E7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B74D-A4FC-4F49-8E07-A0DB96B996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BBFC-F1B8-40FC-95FA-B788E784277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9322-6A21-4FE6-9047-30376BA2B25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8ACB-5FFC-447D-8E66-46CBCB9A0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6B04-7664-4014-897E-4FEFAA55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E578-AFEA-4EF6-A618-56976333E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75EE-27DB-4B69-AD21-26A7E4AC3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1174-7544-4DBF-939C-D93ADF948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4363-2CFF-4A0B-8DD3-27764BE0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C6D5-FA4C-4B6C-9126-D3BD5D1B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8515-6F58-43D5-8151-BE4609FF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3A11-B7CE-4C68-9152-4AA91E0F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2F7A-0DE5-491A-845E-B6875537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023F-458D-4930-AD10-181A25B6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5A02-1E74-418D-AEAA-E980188C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74337-E101-49CE-A231-6FB9074A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240E-1DDD-4F70-A1CF-06799F12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4706-DE89-4BF9-A654-5666ACEE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270D-D67C-4B03-B98D-13C5928AA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E667-7C89-4789-9621-CE618E35B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FC498-73B0-49D8-B959-14B597E43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B1D4B-C974-4453-A649-4470C62B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5D138-CB2E-460B-9B51-93486D37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FECB5-C266-485E-BF8F-FD786281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E2CF3-0A0D-481D-A881-276EC276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5C71-1650-4390-B910-E1380931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BA0DA-CFDB-41F2-B86D-04ECA027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B07A1-E102-4932-A497-75FB5B8E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260C4-69B6-4ABC-ABC1-FDD5FE85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4003B-0A2C-499C-A2F2-0F60B5BB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F7CCF-607D-489B-8ABA-98C142D8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8E68E-F6FE-4350-B8BC-69E9FCF5D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C9849-D0E5-472F-83FA-A0BE390D3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74FEF-3BC2-4DFA-8649-894E4F35D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1E353-555C-47C1-8F3B-C80C785F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82373-A636-496A-9CEE-438FEDA3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99A6-5C23-46FF-AD0B-D32AC563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7E571-2BC4-48E2-88B2-79CB2D2C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FD7A1-11A5-4BB5-B42B-B5616853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440BB-A8B9-47D7-BA9E-32ECA092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363CB-A47A-4487-972D-55778FE7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BCA69-FCF1-4BF8-8271-93C61961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6A2D1-E274-49D8-AD46-73E03B47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75E61-6025-407A-BE94-192B42C9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267AD-D872-4AB7-8224-092872EA4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96EDF-975C-414C-A111-42FE30F6A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8FA1E-687F-43B4-8451-672868451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32DB-E863-4562-9ACF-0443BDFD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139FE-DE2E-49AD-8803-F1F3DACA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77138-70D3-4477-9C23-2138B466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C4A3B-5586-4B1C-A9DE-78E8F66C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76352-824D-48C6-8A24-24CA4AAA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156F2-D4FF-4008-A8C1-E7620081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0609C-91D7-43FE-8102-1080D768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2C109-418B-477D-8D54-2CECE32A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16A24-9B02-4902-B2D7-0D933038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701EE-DDEC-4214-9A8B-B2E88BCC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58926-43DF-4CF3-95D5-62790D391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E189-EDA9-48B7-B6EB-7970F4A4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20FFA-B6C4-4C3F-8BEA-9666BEBB2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909F2-690C-48A4-A27D-236B6793E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A91A9-A613-44E0-9BDF-B85ECBCB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9C476-3D96-4863-AC2F-94F8015A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A2A22-36BF-4AD3-A7EC-55788B3E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8523E-46A1-4318-BAD0-0AA1DCC2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FD31A-2155-4961-81D5-6BE42376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3DC9F-42D3-4A3D-A7F7-54093DA4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41DEE-F068-4480-8D87-6C90B6EE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63C9D-9F8E-4AC6-B105-9DCB7116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BCC6-8DCD-41A2-9658-2C99025A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DB9BD-D992-44D7-B087-21653D8C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DACA7-DAC6-4B81-BA93-1D36BD4CA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55ED3-DF96-45A1-992E-145B3EE45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8A89B-3EF6-438E-8FD3-384D8DCBE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F9B5D-D9A4-4381-90B9-2E088237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5F5D8-0D46-4345-B5D8-41AD5C14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988C4-61B6-4886-81B2-03970343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C8261-7325-45FD-996F-617A9521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611EF-8DDB-488B-9F2B-DD038D54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4D84A-F466-4DCB-8939-7A9A0F8A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6B02-EE76-4BC9-A862-7C5B32D5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66B6C-E7A4-4296-8FF2-BA1AC674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75C73-905C-4884-90F8-7C5F23AA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BD0C9-2D4D-4415-BF99-CA917CC4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71F41-4E08-4551-B89B-00C3CCF9C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561F5-0D20-412A-8224-053ED4AE1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2B7F-7ED9-46E0-B066-610ADEE2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8493-3371-4ABE-9109-9BDFCB2ABA3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A7EF-3497-44B3-BEE8-834607A5059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8EA5-AF8B-45A2-9E21-52AC583914F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A632-DB4D-4155-B51A-887C939B787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69C4-E485-4234-8B7D-C1939025849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1B00-FB30-4A42-851D-B862E5BF30E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8B50-077C-4859-A1BD-6142F80B7A2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Frederick_Winslow_Taylor_crop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Frederick_Winslow_Taylor_crop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250960" y="274320"/>
            <a:ext cx="368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Motivation at 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      Work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761760" y="2487240"/>
            <a:ext cx="817236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act of giving somebody a reason or incentive to do someth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feeling of enthusiasm, interest, or commitment that makes somebody want to do something, or something that causes such a feel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7" name="Picture 5" descr="http://2.bp.blogspot.com/_U6uZiQxa3_U/Suij82mIagI/AAAAAAAABEI/MK6laCl2kzk/s320/motivation.gif"/>
          <p:cNvPicPr/>
          <p:nvPr/>
        </p:nvPicPr>
        <p:blipFill>
          <a:blip r:embed="rId1"/>
          <a:stretch/>
        </p:blipFill>
        <p:spPr>
          <a:xfrm>
            <a:off x="393840" y="27000"/>
            <a:ext cx="485748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aslow’s Hierarchy of Needs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63" name="Content Placeholder 3" descr=""/>
          <p:cNvPicPr/>
          <p:nvPr/>
        </p:nvPicPr>
        <p:blipFill>
          <a:blip r:embed="rId1"/>
          <a:stretch/>
        </p:blipFill>
        <p:spPr>
          <a:xfrm>
            <a:off x="1133640" y="1359000"/>
            <a:ext cx="4975200" cy="5286240"/>
          </a:xfrm>
          <a:prstGeom prst="rect">
            <a:avLst/>
          </a:prstGeom>
          <a:ln w="0">
            <a:noFill/>
          </a:ln>
        </p:spPr>
      </p:pic>
      <p:sp>
        <p:nvSpPr>
          <p:cNvPr id="364" name="TextBox 4"/>
          <p:cNvSpPr/>
          <p:nvPr/>
        </p:nvSpPr>
        <p:spPr>
          <a:xfrm>
            <a:off x="6477120" y="5754600"/>
            <a:ext cx="2514600" cy="642600"/>
          </a:xfrm>
          <a:prstGeom prst="rect">
            <a:avLst/>
          </a:prstGeom>
          <a:noFill/>
          <a:ln w="38160">
            <a:solidFill>
              <a:srgbClr val="6116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ages high enough to cover b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5"/>
          <p:cNvSpPr/>
          <p:nvPr/>
        </p:nvSpPr>
        <p:spPr>
          <a:xfrm>
            <a:off x="5943600" y="4811760"/>
            <a:ext cx="2514600" cy="368280"/>
          </a:xfrm>
          <a:prstGeom prst="rect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Job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6"/>
          <p:cNvSpPr/>
          <p:nvPr/>
        </p:nvSpPr>
        <p:spPr>
          <a:xfrm>
            <a:off x="5334120" y="3697200"/>
            <a:ext cx="2590560" cy="642600"/>
          </a:xfrm>
          <a:prstGeom prst="rect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upport from work colleag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7"/>
          <p:cNvSpPr/>
          <p:nvPr/>
        </p:nvSpPr>
        <p:spPr>
          <a:xfrm>
            <a:off x="4800600" y="2554200"/>
            <a:ext cx="2514600" cy="6426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ecognized for your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8"/>
          <p:cNvSpPr/>
          <p:nvPr/>
        </p:nvSpPr>
        <p:spPr>
          <a:xfrm>
            <a:off x="4419720" y="1563840"/>
            <a:ext cx="2590560" cy="91692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omotions &amp; increased 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Straight Arrow Connector 10"/>
          <p:cNvCxnSpPr/>
          <p:nvPr/>
        </p:nvCxnSpPr>
        <p:spPr>
          <a:xfrm>
            <a:off x="4038120" y="1828800"/>
            <a:ext cx="305640" cy="216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370" name="Straight Arrow Connector 11"/>
          <p:cNvCxnSpPr/>
          <p:nvPr/>
        </p:nvCxnSpPr>
        <p:spPr>
          <a:xfrm>
            <a:off x="4419720" y="2894040"/>
            <a:ext cx="305280" cy="216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arrow" w="med"/>
          </a:ln>
        </p:spPr>
      </p:cxnSp>
      <p:cxnSp>
        <p:nvCxnSpPr>
          <p:cNvPr id="371" name="Straight Arrow Connector 12"/>
          <p:cNvCxnSpPr/>
          <p:nvPr/>
        </p:nvCxnSpPr>
        <p:spPr>
          <a:xfrm>
            <a:off x="4876920" y="3960360"/>
            <a:ext cx="305280" cy="252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72" name="Straight Arrow Connector 13"/>
          <p:cNvCxnSpPr/>
          <p:nvPr/>
        </p:nvCxnSpPr>
        <p:spPr>
          <a:xfrm>
            <a:off x="5486040" y="5027760"/>
            <a:ext cx="305640" cy="216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373" name="Straight Arrow Connector 14"/>
          <p:cNvCxnSpPr/>
          <p:nvPr/>
        </p:nvCxnSpPr>
        <p:spPr>
          <a:xfrm>
            <a:off x="6019920" y="6095520"/>
            <a:ext cx="305280" cy="25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374" name="TextBox 2"/>
          <p:cNvSpPr/>
          <p:nvPr/>
        </p:nvSpPr>
        <p:spPr>
          <a:xfrm>
            <a:off x="762120" y="213840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top two are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higher-order needs.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9"/>
          <p:cNvSpPr/>
          <p:nvPr/>
        </p:nvSpPr>
        <p:spPr>
          <a:xfrm>
            <a:off x="457200" y="3933720"/>
            <a:ext cx="152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first three are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lower-order needs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5"/>
          <p:cNvSpPr/>
          <p:nvPr/>
        </p:nvSpPr>
        <p:spPr>
          <a:xfrm>
            <a:off x="457200" y="3327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Herzberg  -  Two-Factor Theory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14040" y="144756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. </a:t>
            </a:r>
            <a:r>
              <a:rPr b="0" lang="en-US" sz="3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Hygiene factors-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alary and security. Improving these lowers dissatisfaction but doesn't improve motivation or satisfaction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2. </a:t>
            </a:r>
            <a:r>
              <a:rPr b="0" lang="en-US" sz="3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Motivators-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recognition, responsibility, work itself, achievement, advancement - these lead to increased motivation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5715000" y="1828800"/>
            <a:ext cx="3060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erzberg – Human Need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rcRect l="0" t="11203" r="0" b="16804"/>
          <a:stretch/>
        </p:blipFill>
        <p:spPr>
          <a:xfrm>
            <a:off x="1447920" y="1523880"/>
            <a:ext cx="7302240" cy="52578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"/>
          <p:cNvPicPr/>
          <p:nvPr/>
        </p:nvPicPr>
        <p:blipFill>
          <a:blip r:embed="rId2"/>
          <a:stretch/>
        </p:blipFill>
        <p:spPr>
          <a:xfrm>
            <a:off x="6858000" y="1676520"/>
            <a:ext cx="1612800" cy="2008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"/>
          <p:cNvPicPr/>
          <p:nvPr/>
        </p:nvPicPr>
        <p:blipFill>
          <a:blip r:embed="rId3"/>
          <a:stretch/>
        </p:blipFill>
        <p:spPr>
          <a:xfrm>
            <a:off x="1523880" y="4572000"/>
            <a:ext cx="161316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y do people work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TextBox 4"/>
          <p:cNvSpPr/>
          <p:nvPr/>
        </p:nvSpPr>
        <p:spPr>
          <a:xfrm>
            <a:off x="3733920" y="3505320"/>
            <a:ext cx="2819160" cy="106884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5"/>
          <p:cNvSpPr/>
          <p:nvPr/>
        </p:nvSpPr>
        <p:spPr>
          <a:xfrm>
            <a:off x="1828800" y="1676520"/>
            <a:ext cx="20574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7"/>
          <p:cNvSpPr/>
          <p:nvPr/>
        </p:nvSpPr>
        <p:spPr>
          <a:xfrm>
            <a:off x="6629400" y="1600200"/>
            <a:ext cx="205740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8"/>
          <p:cNvSpPr/>
          <p:nvPr/>
        </p:nvSpPr>
        <p:spPr>
          <a:xfrm>
            <a:off x="990720" y="5486400"/>
            <a:ext cx="2057400" cy="94716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oc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9"/>
          <p:cNvSpPr/>
          <p:nvPr/>
        </p:nvSpPr>
        <p:spPr>
          <a:xfrm>
            <a:off x="4038480" y="5495760"/>
            <a:ext cx="2057400" cy="9471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steem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10"/>
          <p:cNvSpPr/>
          <p:nvPr/>
        </p:nvSpPr>
        <p:spPr>
          <a:xfrm>
            <a:off x="6934320" y="5495760"/>
            <a:ext cx="2133360" cy="9471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Job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1" name="Straight Arrow Connector 12"/>
          <p:cNvCxnSpPr/>
          <p:nvPr/>
        </p:nvCxnSpPr>
        <p:spPr>
          <a:xfrm flipH="1" flipV="1">
            <a:off x="2894760" y="2285280"/>
            <a:ext cx="1600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2" name="Straight Arrow Connector 14"/>
          <p:cNvCxnSpPr/>
          <p:nvPr/>
        </p:nvCxnSpPr>
        <p:spPr>
          <a:xfrm flipV="1">
            <a:off x="6400800" y="2208960"/>
            <a:ext cx="12960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3" name="Straight Arrow Connector 16"/>
          <p:cNvCxnSpPr/>
          <p:nvPr/>
        </p:nvCxnSpPr>
        <p:spPr>
          <a:xfrm flipH="1">
            <a:off x="1904760" y="4342320"/>
            <a:ext cx="175320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4" name="Straight Arrow Connector 19"/>
          <p:cNvCxnSpPr/>
          <p:nvPr/>
        </p:nvCxnSpPr>
        <p:spPr>
          <a:xfrm>
            <a:off x="6629400" y="4343040"/>
            <a:ext cx="144864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5" name="Straight Arrow Connector 23"/>
          <p:cNvCxnSpPr/>
          <p:nvPr/>
        </p:nvCxnSpPr>
        <p:spPr>
          <a:xfrm flipH="1">
            <a:off x="5103000" y="4647960"/>
            <a:ext cx="396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otivating Factor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onetary Reward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n-Monetary Reward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Job Satisfac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onetary Reward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434960" y="1447920"/>
            <a:ext cx="4889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0" name="Picture 2" descr="http://blog.kir.com/archives/images/money.jpg"/>
          <p:cNvPicPr/>
          <p:nvPr/>
        </p:nvPicPr>
        <p:blipFill>
          <a:blip r:embed="rId1"/>
          <a:stretch/>
        </p:blipFill>
        <p:spPr>
          <a:xfrm>
            <a:off x="6858000" y="3049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http://www.digital-digest.com/blog/DVDGuy/wp-content/uploads/2007/11/img_money.jpg"/>
          <p:cNvPicPr/>
          <p:nvPr/>
        </p:nvPicPr>
        <p:blipFill>
          <a:blip r:embed="rId2"/>
          <a:stretch/>
        </p:blipFill>
        <p:spPr>
          <a:xfrm>
            <a:off x="4762440" y="2158920"/>
            <a:ext cx="4191120" cy="3772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http://www.sovaleather.com/E717back.jpg"/>
          <p:cNvPicPr/>
          <p:nvPr/>
        </p:nvPicPr>
        <p:blipFill>
          <a:blip r:embed="rId3"/>
          <a:srcRect l="10231" t="0" r="0" b="0"/>
          <a:stretch/>
        </p:blipFill>
        <p:spPr>
          <a:xfrm rot="19716000">
            <a:off x="1593360" y="1844640"/>
            <a:ext cx="2907000" cy="283860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3"/>
          <p:cNvSpPr/>
          <p:nvPr/>
        </p:nvSpPr>
        <p:spPr>
          <a:xfrm>
            <a:off x="3111480" y="5234040"/>
            <a:ext cx="146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2314"/>
                </a:solidFill>
                <a:latin typeface="Arial"/>
              </a:rPr>
              <a:t>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1434600" y="1447560"/>
            <a:ext cx="5194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Time Ra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akes tim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ood/bad workers paid the sam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re supervision need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stly / Expensiv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stant supervision need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duction amounts &amp; qual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ocking in syste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age Calcul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06" name="Picture 2" descr="http://kara.allthingsd.com/files/2008/05/thumbs-down.jpg"/>
          <p:cNvPicPr/>
          <p:nvPr/>
        </p:nvPicPr>
        <p:blipFill>
          <a:blip r:embed="rId1"/>
          <a:stretch/>
        </p:blipFill>
        <p:spPr>
          <a:xfrm>
            <a:off x="5934240" y="76320"/>
            <a:ext cx="3057480" cy="28670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http://img176.echo.cx/img176/1909/minibundy9uv.jpg"/>
          <p:cNvPicPr/>
          <p:nvPr/>
        </p:nvPicPr>
        <p:blipFill>
          <a:blip r:embed="rId2"/>
          <a:stretch/>
        </p:blipFill>
        <p:spPr>
          <a:xfrm>
            <a:off x="6705720" y="3429000"/>
            <a:ext cx="20955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age Calcul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434960" y="1447560"/>
            <a:ext cx="53467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Piece Ra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0" name="Picture 4" descr="http://www.lakewoodconferences.com/direct/dbimage/50315829/Color_Sponge_Rubber_Balls.jpg"/>
          <p:cNvPicPr/>
          <p:nvPr/>
        </p:nvPicPr>
        <p:blipFill>
          <a:blip r:embed="rId1"/>
          <a:stretch/>
        </p:blipFill>
        <p:spPr>
          <a:xfrm>
            <a:off x="1219320" y="2362320"/>
            <a:ext cx="3733560" cy="37335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6" descr="http://static.howstuffworks.com/gif/eg-flying-v-paul.jpg"/>
          <p:cNvPicPr/>
          <p:nvPr/>
        </p:nvPicPr>
        <p:blipFill>
          <a:blip r:embed="rId2"/>
          <a:stretch/>
        </p:blipFill>
        <p:spPr>
          <a:xfrm>
            <a:off x="4960800" y="1523880"/>
            <a:ext cx="41832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age Calcul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1434960" y="1447920"/>
            <a:ext cx="5346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43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Piece Ra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Gill Sans MT"/>
              </a:rPr>
              <a:t>Advantages &amp; Disadvantag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761760" indent="-196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4" name="Picture 2" descr="http://www.haitian.com/files/production-output-(units).jpg"/>
          <p:cNvPicPr/>
          <p:nvPr/>
        </p:nvPicPr>
        <p:blipFill>
          <a:blip r:embed="rId1"/>
          <a:srcRect l="0" t="0" r="0" b="4014"/>
          <a:stretch/>
        </p:blipFill>
        <p:spPr>
          <a:xfrm>
            <a:off x="5867280" y="3809880"/>
            <a:ext cx="3124440" cy="28609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4" descr="http://farm3.static.flickr.com/2064/1888133087_bfc5c3218b_o.jpg"/>
          <p:cNvPicPr/>
          <p:nvPr/>
        </p:nvPicPr>
        <p:blipFill>
          <a:blip r:embed="rId2"/>
          <a:stretch/>
        </p:blipFill>
        <p:spPr>
          <a:xfrm>
            <a:off x="1295280" y="2971800"/>
            <a:ext cx="4173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alari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434960" y="1447560"/>
            <a:ext cx="4432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8" name="Picture 4" descr="http://i.ehow.com/images/GlobalPhoto/Articles/2109514/calendar-main_Full.jpg"/>
          <p:cNvPicPr/>
          <p:nvPr/>
        </p:nvPicPr>
        <p:blipFill>
          <a:blip r:embed="rId1"/>
          <a:stretch/>
        </p:blipFill>
        <p:spPr>
          <a:xfrm>
            <a:off x="5943600" y="3200400"/>
            <a:ext cx="2911320" cy="33526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6" descr="http://www.autoblog.com/media/2006/05/business_suit02.gif"/>
          <p:cNvPicPr/>
          <p:nvPr/>
        </p:nvPicPr>
        <p:blipFill>
          <a:blip r:embed="rId2"/>
          <a:stretch/>
        </p:blipFill>
        <p:spPr>
          <a:xfrm>
            <a:off x="1371600" y="1600200"/>
            <a:ext cx="434340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y do people work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295280" y="1447560"/>
            <a:ext cx="7639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Money is probably at the top of your list!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Earn money to buy food and the basic necessities for life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0" name="Picture 2" descr="http://pro.corbis.com/images/42-17154044.jpg?size=572&amp;uid=%7BA6F85DBF-F0DE-4F35-B96B-193DCB9D04D6%7D"/>
          <p:cNvPicPr/>
          <p:nvPr/>
        </p:nvPicPr>
        <p:blipFill>
          <a:blip r:embed="rId1"/>
          <a:stretch/>
        </p:blipFill>
        <p:spPr>
          <a:xfrm>
            <a:off x="2590920" y="3276720"/>
            <a:ext cx="464796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alary Calcul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arly Income / 1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xtra Wor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clud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ually not paid fo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alculated once a mont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andard Ra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t amount of mone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asic Salar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22" name="Picture 4" descr="http://i.ehow.com/images/GlobalPhoto/Articles/2109514/calendar-main_Full.jpg"/>
          <p:cNvPicPr/>
          <p:nvPr/>
        </p:nvPicPr>
        <p:blipFill>
          <a:blip r:embed="rId1"/>
          <a:stretch/>
        </p:blipFill>
        <p:spPr>
          <a:xfrm>
            <a:off x="6262560" y="714240"/>
            <a:ext cx="2424240" cy="27910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http://www.manageyourpayroll.co.uk/images/payslip2_large.jpg"/>
          <p:cNvPicPr/>
          <p:nvPr/>
        </p:nvPicPr>
        <p:blipFill>
          <a:blip r:embed="rId2"/>
          <a:stretch/>
        </p:blipFill>
        <p:spPr>
          <a:xfrm>
            <a:off x="5410080" y="4343400"/>
            <a:ext cx="3578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alary Reward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5" name="TextBox 5"/>
          <p:cNvSpPr/>
          <p:nvPr/>
        </p:nvSpPr>
        <p:spPr>
          <a:xfrm>
            <a:off x="3733920" y="3505320"/>
            <a:ext cx="2819160" cy="106884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alary Rew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6"/>
          <p:cNvSpPr/>
          <p:nvPr/>
        </p:nvSpPr>
        <p:spPr>
          <a:xfrm>
            <a:off x="1828800" y="1676520"/>
            <a:ext cx="2057400" cy="94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m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7"/>
          <p:cNvSpPr/>
          <p:nvPr/>
        </p:nvSpPr>
        <p:spPr>
          <a:xfrm>
            <a:off x="6629400" y="1600200"/>
            <a:ext cx="205740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Bo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8"/>
          <p:cNvSpPr/>
          <p:nvPr/>
        </p:nvSpPr>
        <p:spPr>
          <a:xfrm>
            <a:off x="990720" y="5486400"/>
            <a:ext cx="2057400" cy="94716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ofit Sh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9"/>
          <p:cNvSpPr/>
          <p:nvPr/>
        </p:nvSpPr>
        <p:spPr>
          <a:xfrm>
            <a:off x="4038480" y="5495760"/>
            <a:ext cx="2057400" cy="13737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Performance Related P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10"/>
          <p:cNvSpPr/>
          <p:nvPr/>
        </p:nvSpPr>
        <p:spPr>
          <a:xfrm>
            <a:off x="6934320" y="5495760"/>
            <a:ext cx="2133360" cy="9471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hare Ow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1" name="Straight Arrow Connector 11"/>
          <p:cNvCxnSpPr/>
          <p:nvPr/>
        </p:nvCxnSpPr>
        <p:spPr>
          <a:xfrm flipH="1" flipV="1">
            <a:off x="2894760" y="2285280"/>
            <a:ext cx="1600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2" name="Straight Arrow Connector 12"/>
          <p:cNvCxnSpPr/>
          <p:nvPr/>
        </p:nvCxnSpPr>
        <p:spPr>
          <a:xfrm flipV="1">
            <a:off x="6400800" y="2208960"/>
            <a:ext cx="12960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3" name="Straight Arrow Connector 13"/>
          <p:cNvCxnSpPr/>
          <p:nvPr/>
        </p:nvCxnSpPr>
        <p:spPr>
          <a:xfrm flipH="1">
            <a:off x="1904760" y="4342320"/>
            <a:ext cx="175320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4" name="Straight Arrow Connector 14"/>
          <p:cNvCxnSpPr/>
          <p:nvPr/>
        </p:nvCxnSpPr>
        <p:spPr>
          <a:xfrm>
            <a:off x="6629400" y="4343040"/>
            <a:ext cx="144864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5" name="Straight Arrow Connector 15"/>
          <p:cNvCxnSpPr/>
          <p:nvPr/>
        </p:nvCxnSpPr>
        <p:spPr>
          <a:xfrm flipH="1">
            <a:off x="5103000" y="4647960"/>
            <a:ext cx="396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on-Monetary Reward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erks / Fringe Benefi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ary – Seniori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actory Work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scounts on produc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ior Manag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any Ca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u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pense Accou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8" name="Picture 2" descr="http://www.nicholsoncartoons.com.au/cartoons/new/2005-10-11%20Costello%20Turnbull%20tax%20plan%20226.jpg"/>
          <p:cNvPicPr/>
          <p:nvPr/>
        </p:nvPicPr>
        <p:blipFill>
          <a:blip r:embed="rId1"/>
          <a:stretch/>
        </p:blipFill>
        <p:spPr>
          <a:xfrm>
            <a:off x="5943600" y="3505320"/>
            <a:ext cx="3030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on-Monetary Reward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371240" y="1676160"/>
            <a:ext cx="5118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iscounts on Produc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alth Car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pany Vehic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uel Car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ree Accommod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1" name="Picture 2" descr="http://www.nicholsoncartoons.com.au/cartoons/new/2005-10-11%20Costello%20Turnbull%20tax%20plan%20226.jpg"/>
          <p:cNvPicPr/>
          <p:nvPr/>
        </p:nvPicPr>
        <p:blipFill>
          <a:blip r:embed="rId1"/>
          <a:stretch/>
        </p:blipFill>
        <p:spPr>
          <a:xfrm>
            <a:off x="5943600" y="3505320"/>
            <a:ext cx="3030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on-Monetary Reward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294920" y="1676160"/>
            <a:ext cx="4496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using Allowan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hare Op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xpense Accou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ension Schem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ree Trips / Holiday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4" name="Picture 2" descr="http://www.nicholsoncartoons.com.au/cartoons/new/2005-10-11%20Costello%20Turnbull%20tax%20plan%20226.jpg"/>
          <p:cNvPicPr/>
          <p:nvPr/>
        </p:nvPicPr>
        <p:blipFill>
          <a:blip r:embed="rId1"/>
          <a:stretch/>
        </p:blipFill>
        <p:spPr>
          <a:xfrm>
            <a:off x="5943600" y="3505320"/>
            <a:ext cx="3030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http://gospelgifs.com/clips/clipz4/images/kidz00a.gif"/>
          <p:cNvPicPr/>
          <p:nvPr/>
        </p:nvPicPr>
        <p:blipFill>
          <a:blip r:embed="rId1"/>
          <a:stretch/>
        </p:blipFill>
        <p:spPr>
          <a:xfrm>
            <a:off x="6024600" y="1600200"/>
            <a:ext cx="3119400" cy="236232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Job Satisfac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990360" y="1447920"/>
            <a:ext cx="5638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appy Work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mployees enjoy their work/job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re committed to their wor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ork more effective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tivated Positively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nhappy Work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or Manage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mployees treated bad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actors perceived bad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inge Benefits, Rate of Pa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8" name="Picture 4" descr="http://upload.wikimedia.org/wikipedia/commons/thumb/3/39/SMirC-sad.svg/320px-SMirC-sad.svg.png"/>
          <p:cNvPicPr/>
          <p:nvPr/>
        </p:nvPicPr>
        <p:blipFill>
          <a:blip r:embed="rId2"/>
          <a:stretch/>
        </p:blipFill>
        <p:spPr>
          <a:xfrm>
            <a:off x="6629400" y="43434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Job Satisfaction Idea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50" name="Picture 2" descr="http://ndn.newsweek.com/media/25/71014_MoneyHappiness_vl-vertical.jpg"/>
          <p:cNvPicPr/>
          <p:nvPr/>
        </p:nvPicPr>
        <p:blipFill>
          <a:blip r:embed="rId1"/>
          <a:stretch/>
        </p:blipFill>
        <p:spPr>
          <a:xfrm>
            <a:off x="1371600" y="1600200"/>
            <a:ext cx="1600200" cy="21495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6" descr="http://wwwdelivery.superstock.com/WI/223/1560/PreviewComp/SuperStock_1560R-2057552.jpg"/>
          <p:cNvPicPr/>
          <p:nvPr/>
        </p:nvPicPr>
        <p:blipFill>
          <a:blip r:embed="rId2"/>
          <a:stretch/>
        </p:blipFill>
        <p:spPr>
          <a:xfrm>
            <a:off x="4038480" y="1600200"/>
            <a:ext cx="1447920" cy="21477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8" descr="http://girlswork.det.nsw.edu.au/images/workprof.gif"/>
          <p:cNvPicPr/>
          <p:nvPr/>
        </p:nvPicPr>
        <p:blipFill>
          <a:blip r:embed="rId3"/>
          <a:stretch/>
        </p:blipFill>
        <p:spPr>
          <a:xfrm>
            <a:off x="6421320" y="1600200"/>
            <a:ext cx="1884600" cy="21337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0" descr="http://www.natuzzi.com/images/splash.jpg"/>
          <p:cNvPicPr/>
          <p:nvPr/>
        </p:nvPicPr>
        <p:blipFill>
          <a:blip r:embed="rId4"/>
          <a:stretch/>
        </p:blipFill>
        <p:spPr>
          <a:xfrm>
            <a:off x="1143000" y="4419720"/>
            <a:ext cx="2612880" cy="1523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2" descr="http://www.speakingchannel.tv/images/updated/insights_employees.jpg"/>
          <p:cNvPicPr/>
          <p:nvPr/>
        </p:nvPicPr>
        <p:blipFill>
          <a:blip r:embed="rId5"/>
          <a:stretch/>
        </p:blipFill>
        <p:spPr>
          <a:xfrm>
            <a:off x="4191120" y="4457880"/>
            <a:ext cx="1638360" cy="1638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4" descr="http://www.biznet.org.uk/new%20images/working%20hours.jpg"/>
          <p:cNvPicPr/>
          <p:nvPr/>
        </p:nvPicPr>
        <p:blipFill>
          <a:blip r:embed="rId6"/>
          <a:srcRect l="0" t="0" r="13691" b="0"/>
          <a:stretch/>
        </p:blipFill>
        <p:spPr>
          <a:xfrm>
            <a:off x="6629400" y="4343400"/>
            <a:ext cx="1936800" cy="1676520"/>
          </a:xfrm>
          <a:prstGeom prst="rect">
            <a:avLst/>
          </a:prstGeom>
          <a:ln w="0">
            <a:noFill/>
          </a:ln>
        </p:spPr>
      </p:pic>
      <p:sp>
        <p:nvSpPr>
          <p:cNvPr id="456" name="TextBox 10"/>
          <p:cNvSpPr/>
          <p:nvPr/>
        </p:nvSpPr>
        <p:spPr>
          <a:xfrm>
            <a:off x="1143000" y="38098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12"/>
          <p:cNvSpPr/>
          <p:nvPr/>
        </p:nvSpPr>
        <p:spPr>
          <a:xfrm>
            <a:off x="3809880" y="38098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pportunity for Pro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13"/>
          <p:cNvSpPr/>
          <p:nvPr/>
        </p:nvSpPr>
        <p:spPr>
          <a:xfrm>
            <a:off x="6324480" y="38862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orking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14"/>
          <p:cNvSpPr/>
          <p:nvPr/>
        </p:nvSpPr>
        <p:spPr>
          <a:xfrm>
            <a:off x="1371600" y="6172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ringe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15"/>
          <p:cNvSpPr/>
          <p:nvPr/>
        </p:nvSpPr>
        <p:spPr>
          <a:xfrm>
            <a:off x="3962520" y="62485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mploye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16"/>
          <p:cNvSpPr/>
          <p:nvPr/>
        </p:nvSpPr>
        <p:spPr>
          <a:xfrm>
            <a:off x="6477120" y="62485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orking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Job Satisfac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63" name="Picture 2" descr="http://images.google.co.th/url?q=http://wwwdelivery.superstock.com/WI/223/1527/PreviewComp/SuperStock_1527R-1117135.jpg&amp;usg=AFQjCNEpSefbM-Pl2iZtPnQFmJkZUbMDfw"/>
          <p:cNvPicPr/>
          <p:nvPr/>
        </p:nvPicPr>
        <p:blipFill>
          <a:blip r:embed="rId1"/>
          <a:stretch/>
        </p:blipFill>
        <p:spPr>
          <a:xfrm>
            <a:off x="1295280" y="1447920"/>
            <a:ext cx="2265480" cy="19810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4" descr="http://lh5.ggpht.com/_Feojla9K-z4/R9UVXZyKT3I/AAAAAAAAC8o/s5T3iHBHcK4/IMG_1685.jpg"/>
          <p:cNvPicPr/>
          <p:nvPr/>
        </p:nvPicPr>
        <p:blipFill>
          <a:blip r:embed="rId2"/>
          <a:stretch/>
        </p:blipFill>
        <p:spPr>
          <a:xfrm>
            <a:off x="4191120" y="1295280"/>
            <a:ext cx="1600200" cy="21337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6" descr="http://www.uweb.ucsb.edu/~n_r_d/bill-gates.jpg"/>
          <p:cNvPicPr/>
          <p:nvPr/>
        </p:nvPicPr>
        <p:blipFill>
          <a:blip r:embed="rId3"/>
          <a:stretch/>
        </p:blipFill>
        <p:spPr>
          <a:xfrm>
            <a:off x="1600200" y="4000680"/>
            <a:ext cx="1676520" cy="20952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0" descr="http://lifeboat.com/images/responsibilities.jpg"/>
          <p:cNvPicPr/>
          <p:nvPr/>
        </p:nvPicPr>
        <p:blipFill>
          <a:blip r:embed="rId4"/>
          <a:stretch/>
        </p:blipFill>
        <p:spPr>
          <a:xfrm>
            <a:off x="6324480" y="10666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12" descr="http://asd.gmu.edu/eom/images/eom-guy.jpg"/>
          <p:cNvPicPr/>
          <p:nvPr/>
        </p:nvPicPr>
        <p:blipFill>
          <a:blip r:embed="rId5"/>
          <a:stretch/>
        </p:blipFill>
        <p:spPr>
          <a:xfrm>
            <a:off x="4038480" y="3887640"/>
            <a:ext cx="1905120" cy="22082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14" descr="http://www.ema-eda.com/images/training.jpg"/>
          <p:cNvPicPr/>
          <p:nvPr/>
        </p:nvPicPr>
        <p:blipFill>
          <a:blip r:embed="rId6"/>
          <a:stretch/>
        </p:blipFill>
        <p:spPr>
          <a:xfrm>
            <a:off x="6629400" y="3962520"/>
            <a:ext cx="1697040" cy="2209680"/>
          </a:xfrm>
          <a:prstGeom prst="rect">
            <a:avLst/>
          </a:prstGeom>
          <a:ln w="0">
            <a:noFill/>
          </a:ln>
        </p:spPr>
      </p:pic>
      <p:sp>
        <p:nvSpPr>
          <p:cNvPr id="469" name="TextBox 10"/>
          <p:cNvSpPr/>
          <p:nvPr/>
        </p:nvSpPr>
        <p:spPr>
          <a:xfrm>
            <a:off x="1295280" y="3581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lleag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11"/>
          <p:cNvSpPr/>
          <p:nvPr/>
        </p:nvSpPr>
        <p:spPr>
          <a:xfrm>
            <a:off x="3962520" y="35053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Nature of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2"/>
          <p:cNvSpPr/>
          <p:nvPr/>
        </p:nvSpPr>
        <p:spPr>
          <a:xfrm>
            <a:off x="6400800" y="35053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13"/>
          <p:cNvSpPr/>
          <p:nvPr/>
        </p:nvSpPr>
        <p:spPr>
          <a:xfrm>
            <a:off x="1295280" y="6172200"/>
            <a:ext cx="22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ense of Achiev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14"/>
          <p:cNvSpPr/>
          <p:nvPr/>
        </p:nvSpPr>
        <p:spPr>
          <a:xfrm>
            <a:off x="3886200" y="6172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ecog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15"/>
          <p:cNvSpPr/>
          <p:nvPr/>
        </p:nvSpPr>
        <p:spPr>
          <a:xfrm>
            <a:off x="6477120" y="62485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5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6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8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9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creasing Job Satisfac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1434960" y="1523520"/>
            <a:ext cx="3657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Job Rot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orkers swap dut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ecific Task for a period of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creases Varie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5276880" y="1523520"/>
            <a:ext cx="3657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sier for Managers to move workers for co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ES NOT make tasks more interes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78" name="Picture 2" descr="77594F6C"/>
          <p:cNvPicPr/>
          <p:nvPr/>
        </p:nvPicPr>
        <p:blipFill>
          <a:blip r:embed="rId1"/>
          <a:srcRect l="36959" t="11851" r="7606" b="73493"/>
          <a:stretch/>
        </p:blipFill>
        <p:spPr>
          <a:xfrm>
            <a:off x="1619280" y="4191120"/>
            <a:ext cx="6915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creasing Job Satisfac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434960" y="1523520"/>
            <a:ext cx="3657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Job Enlarge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tra Tas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milar level of wor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ed to job descrip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s variety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5276880" y="1523520"/>
            <a:ext cx="3657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Do not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 extra wor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Do not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crease responsibil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82" name="Picture 2" descr="77594F6C"/>
          <p:cNvPicPr/>
          <p:nvPr/>
        </p:nvPicPr>
        <p:blipFill>
          <a:blip r:embed="rId1"/>
          <a:srcRect l="36959" t="36185" r="8506" b="46715"/>
          <a:stretch/>
        </p:blipFill>
        <p:spPr>
          <a:xfrm>
            <a:off x="2362320" y="4343400"/>
            <a:ext cx="556236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y do people work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142640" y="1447920"/>
            <a:ext cx="77914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oney is probably at the top of your list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Content Placeholder 2"/>
          <p:cNvSpPr/>
          <p:nvPr/>
        </p:nvSpPr>
        <p:spPr>
          <a:xfrm>
            <a:off x="3962520" y="2362320"/>
            <a:ext cx="4572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ther Reasons incl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ngsana New"/>
              </a:rPr>
              <a:t>To make new fri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ngsana New"/>
              </a:rPr>
              <a:t>To have Job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ngsana New"/>
              </a:rPr>
              <a:t>Sense of Achievement / Impor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ngsana New"/>
              </a:rPr>
              <a:t>Sense of Id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ngsana New"/>
              </a:rPr>
              <a:t>Satisfying Amb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1"/>
          <a:srcRect l="18983" t="29565" r="61364" b="11301"/>
          <a:stretch/>
        </p:blipFill>
        <p:spPr>
          <a:xfrm>
            <a:off x="1600200" y="2590920"/>
            <a:ext cx="1905120" cy="3582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"/>
          <p:cNvPicPr/>
          <p:nvPr/>
        </p:nvPicPr>
        <p:blipFill>
          <a:blip r:embed="rId2"/>
          <a:srcRect l="63169" t="17686" r="26087" b="41651"/>
          <a:stretch/>
        </p:blipFill>
        <p:spPr>
          <a:xfrm>
            <a:off x="152280" y="1219320"/>
            <a:ext cx="768600" cy="46479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4" descr=""/>
          <p:cNvPicPr/>
          <p:nvPr/>
        </p:nvPicPr>
        <p:blipFill>
          <a:blip r:embed="rId3"/>
          <a:srcRect l="41997" t="76605" r="16007" b="9959"/>
          <a:stretch/>
        </p:blipFill>
        <p:spPr>
          <a:xfrm>
            <a:off x="4267080" y="5943600"/>
            <a:ext cx="41911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creasing Job Satisfac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434960" y="1523520"/>
            <a:ext cx="3657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Job Enrich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 tasks with more skills / responsibil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itional Training may be need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designing job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5276880" y="1523520"/>
            <a:ext cx="3657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cope for fulfilling higher human nee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orkers more commit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aises Productiv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86" name="Picture 2" descr="77594F6C"/>
          <p:cNvPicPr/>
          <p:nvPr/>
        </p:nvPicPr>
        <p:blipFill>
          <a:blip r:embed="rId1"/>
          <a:srcRect l="36959" t="64740" r="9284" b="18162"/>
          <a:stretch/>
        </p:blipFill>
        <p:spPr>
          <a:xfrm>
            <a:off x="2133720" y="4114800"/>
            <a:ext cx="57909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2" descr="F639A45A"/>
          <p:cNvPicPr/>
          <p:nvPr/>
        </p:nvPicPr>
        <p:blipFill>
          <a:blip r:embed="rId1"/>
          <a:srcRect l="25198" t="40310" r="32806" b="42591"/>
          <a:stretch/>
        </p:blipFill>
        <p:spPr>
          <a:xfrm>
            <a:off x="1066680" y="3276720"/>
            <a:ext cx="4899240" cy="274320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creasing Job Satisfac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434960" y="1523520"/>
            <a:ext cx="3657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Autonomous Work Groups &amp; Teamwork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roup given responsibility for a particular process, product or develop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cid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ow to complete the tas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rganize job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7" dur="2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1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6" dur="2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F639A45A"/>
          <p:cNvPicPr/>
          <p:nvPr/>
        </p:nvPicPr>
        <p:blipFill>
          <a:blip r:embed="rId1"/>
          <a:srcRect l="25198" t="40310" r="32806" b="42591"/>
          <a:stretch/>
        </p:blipFill>
        <p:spPr>
          <a:xfrm>
            <a:off x="1066680" y="3276720"/>
            <a:ext cx="4899240" cy="27432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creasing Job Satisfac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1434960" y="1523520"/>
            <a:ext cx="3657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Autonomous Work Groups &amp; Teamwork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5276880" y="1523520"/>
            <a:ext cx="3657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ork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re involv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cision mak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ponsibil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– jobs &amp; tas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re committe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otivating Factors at all Level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96" name="Picture 2" descr="F639A45A"/>
          <p:cNvPicPr/>
          <p:nvPr/>
        </p:nvPicPr>
        <p:blipFill>
          <a:blip r:embed="rId1"/>
          <a:srcRect l="16799" t="58267" r="22726" b="20968"/>
          <a:stretch/>
        </p:blipFill>
        <p:spPr>
          <a:xfrm>
            <a:off x="1371600" y="1676520"/>
            <a:ext cx="73915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otiv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920"/>
            <a:ext cx="74995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’s the reason why employees want to work hard and work effectively for the busines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Content Placeholder 2"/>
          <p:cNvSpPr/>
          <p:nvPr/>
        </p:nvSpPr>
        <p:spPr>
          <a:xfrm>
            <a:off x="1371600" y="5867280"/>
            <a:ext cx="7497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Employees are a firm’s greatest ass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" descr="B8DDBA5E"/>
          <p:cNvPicPr/>
          <p:nvPr/>
        </p:nvPicPr>
        <p:blipFill>
          <a:blip r:embed="rId1"/>
          <a:srcRect l="0" t="4420" r="5925" b="7191"/>
          <a:stretch/>
        </p:blipFill>
        <p:spPr>
          <a:xfrm>
            <a:off x="1828800" y="3200400"/>
            <a:ext cx="6400800" cy="2286000"/>
          </a:xfrm>
          <a:prstGeom prst="rect">
            <a:avLst/>
          </a:prstGeom>
          <a:ln w="63360">
            <a:solidFill>
              <a:srgbClr val="967d4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otivational Theori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Peopl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work for themselv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ork hard &amp; effectively becaus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340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see the direct benefits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People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working for someone els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ay not work as hard or effectively as a resul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340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not seeing THEIR benefit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Task of Managemen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Needed for success of the busine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otivational Theori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4" name="Picture 2" descr="http://upload.wikimedia.org/wikipedia/commons/thumb/9/90/Frederick_Winslow_Taylor_crop.jpg/200px-Frederick_Winslow_Taylor_cro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2438280"/>
            <a:ext cx="1682640" cy="2514600"/>
          </a:xfrm>
          <a:prstGeom prst="rect">
            <a:avLst/>
          </a:prstGeom>
          <a:ln w="0">
            <a:noFill/>
          </a:ln>
        </p:spPr>
      </p:pic>
      <p:sp>
        <p:nvSpPr>
          <p:cNvPr id="345" name="TextBox 4"/>
          <p:cNvSpPr/>
          <p:nvPr/>
        </p:nvSpPr>
        <p:spPr>
          <a:xfrm>
            <a:off x="1143000" y="51055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ay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2" descr="http://www.trans4mind.com/mind-development/maslow.jpg"/>
          <p:cNvPicPr/>
          <p:nvPr/>
        </p:nvPicPr>
        <p:blipFill>
          <a:blip r:embed="rId3"/>
          <a:stretch/>
        </p:blipFill>
        <p:spPr>
          <a:xfrm>
            <a:off x="2954160" y="2438280"/>
            <a:ext cx="1979640" cy="2514600"/>
          </a:xfrm>
          <a:prstGeom prst="rect">
            <a:avLst/>
          </a:prstGeom>
          <a:ln w="0">
            <a:noFill/>
          </a:ln>
        </p:spPr>
      </p:pic>
      <p:sp>
        <p:nvSpPr>
          <p:cNvPr id="347" name="TextBox 6"/>
          <p:cNvSpPr/>
          <p:nvPr/>
        </p:nvSpPr>
        <p:spPr>
          <a:xfrm>
            <a:off x="2938320" y="51055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s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4"/>
          <a:stretch/>
        </p:blipFill>
        <p:spPr>
          <a:xfrm>
            <a:off x="4906800" y="2476440"/>
            <a:ext cx="1959120" cy="2438640"/>
          </a:xfrm>
          <a:prstGeom prst="rect">
            <a:avLst/>
          </a:prstGeom>
          <a:ln w="0">
            <a:noFill/>
          </a:ln>
        </p:spPr>
      </p:pic>
      <p:sp>
        <p:nvSpPr>
          <p:cNvPr id="349" name="TextBox 10"/>
          <p:cNvSpPr/>
          <p:nvPr/>
        </p:nvSpPr>
        <p:spPr>
          <a:xfrm>
            <a:off x="4808520" y="51055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rzbe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Content Placeholder 11" descr=""/>
          <p:cNvPicPr/>
          <p:nvPr/>
        </p:nvPicPr>
        <p:blipFill>
          <a:blip r:embed="rId5"/>
          <a:stretch/>
        </p:blipFill>
        <p:spPr>
          <a:xfrm>
            <a:off x="6865920" y="2523960"/>
            <a:ext cx="1897200" cy="2391120"/>
          </a:xfrm>
          <a:prstGeom prst="rect">
            <a:avLst/>
          </a:prstGeom>
          <a:ln w="0">
            <a:noFill/>
          </a:ln>
        </p:spPr>
      </p:pic>
      <p:sp>
        <p:nvSpPr>
          <p:cNvPr id="351" name="TextBox 12"/>
          <p:cNvSpPr/>
          <p:nvPr/>
        </p:nvSpPr>
        <p:spPr>
          <a:xfrm>
            <a:off x="7315200" y="5135400"/>
            <a:ext cx="121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oc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13"/>
          <p:cNvSpPr/>
          <p:nvPr/>
        </p:nvSpPr>
        <p:spPr>
          <a:xfrm>
            <a:off x="1371600" y="5659560"/>
            <a:ext cx="71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911                       1954                    1959                         19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.W.  Tayl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657600" y="1447560"/>
            <a:ext cx="5276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arted as a Factory Labourer in America in the 1880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ose to Chief Engine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ducted Experiments on how Labour Productivity could be increas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vised Piece Rate system to increase productivi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5" name="Picture 2" descr="http://upload.wikimedia.org/wikipedia/commons/thumb/9/90/Frederick_Winslow_Taylor_crop.jpg/200px-Frederick_Winslow_Taylor_cro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905120"/>
            <a:ext cx="24969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.W. Taylor’s Assumptio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143000" y="1447560"/>
            <a:ext cx="4114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ssumption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ll individuals are motivated by personal gain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at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aid mor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dividuals work more effectively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8" name="Picture 2" descr="http://www.nps.gov/edis/edisonia/graphics/29410116.jpg"/>
          <p:cNvPicPr/>
          <p:nvPr/>
        </p:nvPicPr>
        <p:blipFill>
          <a:blip r:embed="rId1"/>
          <a:stretch/>
        </p:blipFill>
        <p:spPr>
          <a:xfrm>
            <a:off x="5410080" y="2209680"/>
            <a:ext cx="354816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aslow’s Hierarchy of Needs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60" name="Picture 4" descr=""/>
          <p:cNvPicPr/>
          <p:nvPr/>
        </p:nvPicPr>
        <p:blipFill>
          <a:blip r:embed="rId1"/>
          <a:stretch/>
        </p:blipFill>
        <p:spPr>
          <a:xfrm>
            <a:off x="1295280" y="1479600"/>
            <a:ext cx="7637760" cy="49975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http://www.trans4mind.com/mind-development/maslow.jpg"/>
          <p:cNvPicPr/>
          <p:nvPr/>
        </p:nvPicPr>
        <p:blipFill>
          <a:blip r:embed="rId2"/>
          <a:stretch/>
        </p:blipFill>
        <p:spPr>
          <a:xfrm>
            <a:off x="1447920" y="1554120"/>
            <a:ext cx="129528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Ernest Reichelt</dc:creator>
  <dc:description/>
  <dc:language>en-US</dc:language>
  <cp:lastModifiedBy>Ernest Reichelt</cp:lastModifiedBy>
  <dcterms:modified xsi:type="dcterms:W3CDTF">2013-06-21T01:07:10Z</dcterms:modified>
  <cp:revision>275</cp:revision>
  <dc:subject/>
  <dc:title>Unit 5 – People and Work</dc:title>
</cp:coreProperties>
</file>